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E79-AFCF-4C52-A207-7DA590F2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F9D-3D46-433E-AF74-10873673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AE3-63E5-4799-8236-C84E362E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578-39B7-43D3-BF79-7358309C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BD96-C245-4ECC-A7C1-E19B812B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6B8A-8467-4884-B38E-09B3E995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6034-109D-474C-AEC2-5C71B91F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E0B4-E5FB-487A-A2CE-7A0939A6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1712-9E36-4A2D-B6E4-B00059F1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927C-EB1E-4B6D-B2A3-89483930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07B2-0924-454E-A25A-AFFD3330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9D4-4756-4C5D-9CFC-324F2393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0078-B696-43C8-A82C-F7C32A2B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12D4-C849-446B-82BB-E55E825C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B1A5-A152-40AB-A368-7C3F09F2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303D-B91F-4B6D-B1CD-CA227AAB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0F6C-221E-4070-ADC4-627FE04E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515-7254-4AEF-B999-9421417F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05E-DA37-45A0-B426-6E0E1852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4DB-5228-4524-B2B5-9F0A7385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C55-F095-40EA-A3AE-B7B5C153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272-2A6A-4706-B462-67CF39E6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10F-B196-41BE-B211-0F0C5CAA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5F7-27F1-4570-8215-4B7C54A8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D811-D162-4030-91FD-549D2291FA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CCC5-B319-4655-B27F-F373C8B1B9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A Remnant Shall Retur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8, Lesson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40-4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12,24,26,29-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emiah 21,37,34,32,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3757680"/>
            <a:ext cx="4191120" cy="3100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838080"/>
            <a:ext cx="5043600" cy="2800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099040" y="838080"/>
            <a:ext cx="40449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102360" y="3200400"/>
            <a:ext cx="3041640" cy="365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629400" y="2438280"/>
            <a:ext cx="30492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522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mall-scale modern day recreation of the temple in Jerusa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85572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819520" y="3886200"/>
            <a:ext cx="45720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28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zekiel and Jeremiah’s Prophesies During This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175248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4876920"/>
            <a:ext cx="1447560" cy="1143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Zedekiah’s Captivity is Signifi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12:1-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dig a tunnel through a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remble and shudder as he eats his food and drinks his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discuss the erroneous proverb that gives false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zekiel and Jeremia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dekiah is pressured to rebel against Nebuchadnezzar and make an alliance with Egy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emiah warned him that God would not help Judah – Jer. 21:1-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zekiel was told the day the king of Babylon laid siege to the city of Jerusalem –Ezek. 24:1-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gyptians distracted the siege, and this gave Zedekiah false hope. – Jer. 3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emiah warned him not to cling to such false hope – Jer. 37:9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zekiel and Jeremia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is told that Jerusalem was a filthy pot that needed burning – Ezek. 24:1-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is forbidden to make outward mourning for the death of his wife – 24:15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as a sign to the Judeans of how they will have to act when their calamity 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prophesies against Egypt - 29-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zekiel and Jeremia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emiah bought a field as a sign that God would one day restore Israel to the land – Jer. 32:1-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reaching continued to anger the Jewish lea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cast him into the dungeon of Malchiah –  38:1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ther Nations Would Also Fall To The Chaldea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pt – Ezek. 29-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 Egypt’s allies – 30:1-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re – Total destruction – 26:1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3:53:33Z</dcterms:created>
  <dc:creator>Terry W. Benton</dc:creator>
  <dc:description/>
  <dc:language>en-US</dc:language>
  <cp:lastModifiedBy>Frank D Vines</cp:lastModifiedBy>
  <dcterms:modified xsi:type="dcterms:W3CDTF">2007-02-01T15:56:08Z</dcterms:modified>
  <cp:revision>9</cp:revision>
  <dc:subject/>
  <dc:title>A Remnant Shall Return</dc:title>
</cp:coreProperties>
</file>